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geräu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stär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1040" y="549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stär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ob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rido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, Pfeife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unt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100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3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Stridor, Pfeife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8400" y="54936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stärk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Ursache in den ob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rido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, Pfeife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 der N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 Larynx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harynx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che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5" idx="3"/>
            <a:endCxn id="10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 N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0240" y="549360"/>
            <a:ext cx="69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temgeräusche verstärkt &gt; Ursache in den ob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(Stridor, Pfeifen) &gt; in der N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oly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ahnproble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mdkörp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Grashal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atzenschnupf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spergil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ryptokokk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 Larynx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harynx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che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0240" y="549360"/>
            <a:ext cx="69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temgeräusche verstärkt &gt; Ursache in den ob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(Stridor, Pfeifen) &gt; in Larynx/Pharynx/Trache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2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eocephalen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 in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t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0600" y="54936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emgeräusche verstärkt &gt; Ursache in den unteren Atemw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3"/>
            <a:endCxn id="1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fektion mit Lungenwürmer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nch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ines Asth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 (kardi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nd nicht-kardiog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metastas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imärer 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tis dur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erzwürm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09:36:14Z</dcterms:modified>
  <cp:revision>330</cp:revision>
  <dc:subject/>
  <dc:title>Vorstellung einer Neuheit</dc:title>
</cp:coreProperties>
</file>